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5A1-9E0C-4A8B-972E-1378567B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5AD-8E0E-498C-8121-63E8AE00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D78-9DA1-4116-92D9-F2509E6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915-2E9E-4282-928B-20515907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F28-FB7E-480F-A023-4F034D75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692-480B-4822-B567-C94E14F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51C-077A-4644-A81B-5220CAE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3BD-F3D6-4BA7-9A0F-9CACCBC4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E42-80FC-4CE7-B57F-CC2139F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D01-F421-4188-8697-8B7C68D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BA1-9BED-471A-88BA-778E621A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0AD-B6A8-416D-93A5-56F143A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E95-AF8C-44C9-B26B-5DD93FBE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77440" cy="747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8573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020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0:44:46Z</dcterms:created>
  <dc:creator>Windows xp</dc:creator>
  <dc:description/>
  <dc:language>en-US</dc:language>
  <cp:lastModifiedBy>Windows xp</cp:lastModifiedBy>
  <dcterms:modified xsi:type="dcterms:W3CDTF">2011-10-06T00:47:41Z</dcterms:modified>
  <cp:revision>2</cp:revision>
  <dc:subject/>
  <dc:title>Diapositiva 1</dc:title>
</cp:coreProperties>
</file>